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13.jpeg" ContentType="image/jpeg"/>
  <Override PartName="/ppt/media/image14.jpeg" ContentType="image/jpeg"/>
  <Override PartName="/ppt/media/image5.gif" ContentType="image/gif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9D6C-9B03-49C9-8427-B34285D9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F012-5180-42CA-AD05-73FCF15A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8553-2516-4968-AB3B-C54CCCA37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60AC-DBD2-476E-806E-EEBF57F5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B69E-5F6D-43D3-A7A8-0F95217A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BDB9-FF55-46F3-9CA1-6BAC3956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5032-E24D-447A-8432-CDFCD545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D363-7599-4EB4-9C53-F1E33286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3654-49AE-469F-A0F9-A386D20F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4EC5-5B9F-4DD1-ACF4-30CB3C45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FD90-6C01-47CB-A664-0DD7DAE0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8C33-DAB4-4552-9FB6-085A32A2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C11B-EAC3-4DBF-AD08-1A251E10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09F3-358D-458B-8E57-EBBC6D66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57B8-1A75-4720-9709-C70A72E1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3063-8DA3-4548-BF7A-65C7B507E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7587-BECA-46CA-AE78-00CF763D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684A-228F-4E02-8D4C-2CBE8840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4B0C-AA56-4037-9706-5569DCA2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99DA-F956-425C-A046-D1F47E11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FB77-C473-48A2-AF91-D2B7D8D3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3610-F327-48C8-843E-9054B0D1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20F6-5B70-4B76-A512-53262EAE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36BC-E2A2-4906-BB6E-59C6738E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1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8963-E06D-4A10-8018-DE186CD48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75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71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3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4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5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6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7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8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9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0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1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2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3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4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5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6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7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8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19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0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1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2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3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4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5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6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7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8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29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0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1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2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3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4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5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6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7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8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39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0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1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2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3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4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5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6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7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8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49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0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1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2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3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4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5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6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7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8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59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0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1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2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3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4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5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68F1-02D9-4BBC-A9CC-841AE22A3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qcc.cuny.edu/biologicalsciences/Faculty/DMeyer/respiration.html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hyperlink" Target="http://www.nutristrategy.com/activitylist4.ht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096560"/>
            <a:ext cx="76788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(Biology) Chapter 9: Cellular Respir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657240" y="2860200"/>
            <a:ext cx="4800600" cy="11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Cells Make ATP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ergy-Releasing Pathwa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Picture 5" descr="http://ebiomedia.com/prod/images/PHOTRESP.JPG"/>
          <p:cNvPicPr/>
          <p:nvPr/>
        </p:nvPicPr>
        <p:blipFill>
          <a:blip r:embed="rId1"/>
          <a:stretch/>
        </p:blipFill>
        <p:spPr>
          <a:xfrm>
            <a:off x="4495680" y="4191120"/>
            <a:ext cx="2880000" cy="216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Glycolysis is divided into two major phases: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413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a0000"/>
                </a:solidFill>
                <a:uFillTx/>
                <a:latin typeface="Verdana"/>
              </a:rPr>
              <a:t>Endergonic Reac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t require initial investment of energy (ATP)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2 ATP Invest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a0000"/>
                </a:solidFill>
                <a:uFillTx/>
                <a:latin typeface="Verdana"/>
              </a:rPr>
              <a:t>Exergonic Reac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Second set of reactions; yield ATP and NADH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4 ATP Produc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t Total:  </a:t>
            </a: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2 ATP (4 – 2 AT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2 NAD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2 H2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a0000"/>
                </a:solidFill>
                <a:latin typeface="Verdana"/>
              </a:rPr>
              <a:t>At the end of glycolysis, 90% of the chemical energy in glucose is still un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#2 Pyruvate Is Converted to Acetyl-CoA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yruvate molecules formed in glycolysis enter the mitochondria, where they are converted to </a:t>
            </a:r>
            <a:r>
              <a:rPr b="0" lang="en-US" sz="2800" spc="-1" strike="noStrike">
                <a:solidFill>
                  <a:srgbClr val="9a0000"/>
                </a:solidFill>
                <a:latin typeface="Verdana"/>
              </a:rPr>
              <a:t>acetyl coenzyme 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cetyl Co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t Total: (2 cycles yiel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2 Acetyl Co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2 NAD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2 CO</a:t>
            </a:r>
            <a:r>
              <a:rPr b="0" lang="en-US" sz="2000" spc="-1" strike="noStrike" baseline="-25000">
                <a:solidFill>
                  <a:srgbClr val="9a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0 A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http://www.sirinet.net/~jgjohnso/modacetylcoa.jpg"/>
          <p:cNvPicPr/>
          <p:nvPr/>
        </p:nvPicPr>
        <p:blipFill>
          <a:blip r:embed="rId1"/>
          <a:stretch/>
        </p:blipFill>
        <p:spPr>
          <a:xfrm>
            <a:off x="2133720" y="304920"/>
            <a:ext cx="4809960" cy="6019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6264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#3 Krebs (Citric Acid) Cycle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rised of eight steps, each catalyzed by a specific enzy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qcc.cuny.edu/biologicalsciences/Faculty/DMeyer/respiration.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434880"/>
            <a:ext cx="81630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Because two acetyl CoA molecules are produced from each glucose molecule, two cycles are required per glucose molecule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9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itric Acid Cycle Yields: (per gluco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 NAD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FAD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AT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 the end of the citric acid cycle, glucose has been completely broken dow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ly 4 ATP molecules have been formed by substrate-level phosphorylation: 2 during glycolysis and 2 during citric acid cyc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 this time, most of the energy of the glucose is in the form of high-energy electrons in NADH and FADH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ir energy will be used to synthesize additional ATP through the electron transport chain and chemiosmosi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3" descr="http://www.techedlab.com/temp/kreb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1" name="Straight Arrow Connector 9"/>
          <p:cNvCxnSpPr/>
          <p:nvPr/>
        </p:nvCxnSpPr>
        <p:spPr>
          <a:xfrm flipV="1">
            <a:off x="6476760" y="2971080"/>
            <a:ext cx="10674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42" name="Picture 2" descr="http://library.thinkquest.org/C004535/media/kreb_cycle.gif"/>
          <p:cNvPicPr/>
          <p:nvPr/>
        </p:nvPicPr>
        <p:blipFill>
          <a:blip r:embed="rId1"/>
          <a:stretch/>
        </p:blipFill>
        <p:spPr>
          <a:xfrm>
            <a:off x="1143000" y="228600"/>
            <a:ext cx="7162920" cy="6140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The Electron Transport Chain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DH and FADH2 transport high-energy electrons from one acceptor to anoth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the electrons are passed along in a series of exergonic redox reactions, some of their energy is used to drive the synthesis of A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ADH = 3 AT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D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= 2 AT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ydrogen (protons) and electrons pass through the enzyme </a:t>
            </a: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ATP synth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http://spot.pcc.edu/~jvolpe/b/bi234/lec/3_metabolism/images/fig5-21_ETC.JPG"/>
          <p:cNvPicPr/>
          <p:nvPr/>
        </p:nvPicPr>
        <p:blipFill>
          <a:blip r:embed="rId1"/>
          <a:stretch/>
        </p:blipFill>
        <p:spPr>
          <a:xfrm>
            <a:off x="609480" y="0"/>
            <a:ext cx="7925040" cy="6834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Energy Yields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lycolysi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2 AT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substrate-level phosphoryla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NAD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TC = </a:t>
            </a:r>
            <a:r>
              <a:rPr b="1" lang="en-US" sz="1800" spc="-1" strike="noStrike">
                <a:solidFill>
                  <a:srgbClr val="9a0000"/>
                </a:solidFill>
                <a:latin typeface="Verdana"/>
              </a:rPr>
              <a:t>4-6 AT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Pyruvat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yruvate to Acetyl Co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0 AT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substrate-level phosphoryla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NAD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TC = </a:t>
            </a:r>
            <a:r>
              <a:rPr b="1" lang="en-US" sz="1800" spc="-1" strike="noStrike">
                <a:solidFill>
                  <a:srgbClr val="9a0000"/>
                </a:solidFill>
                <a:latin typeface="Verdana"/>
              </a:rPr>
              <a:t>6 AT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Acetyl Co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itric Acid Cyc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2 AT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substrate-level phosphoryla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 NAD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TC = </a:t>
            </a:r>
            <a:r>
              <a:rPr b="1" lang="en-US" sz="1800" spc="-1" strike="noStrike">
                <a:solidFill>
                  <a:srgbClr val="9a0000"/>
                </a:solidFill>
                <a:latin typeface="Verdana"/>
              </a:rPr>
              <a:t>18 AT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FAD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TC = </a:t>
            </a:r>
            <a:r>
              <a:rPr b="1" lang="en-US" sz="1800" spc="-1" strike="noStrike">
                <a:solidFill>
                  <a:srgbClr val="9a0000"/>
                </a:solidFill>
                <a:latin typeface="Verdana"/>
              </a:rPr>
              <a:t>4 AT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 CO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H2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lectron Transport Cha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a0000"/>
                </a:solidFill>
                <a:latin typeface="Verdana"/>
              </a:rPr>
              <a:t>32-34 AT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Chemiosmosis)             </a:t>
            </a:r>
            <a:r>
              <a:rPr b="0" lang="en-US" sz="1800" spc="-1" strike="noStrike">
                <a:solidFill>
                  <a:srgbClr val="9a0000"/>
                </a:solidFill>
                <a:latin typeface="Verdana"/>
              </a:rPr>
              <a:t>Total = </a:t>
            </a:r>
            <a:r>
              <a:rPr b="1" lang="en-US" sz="1800" spc="-1" strike="noStrike">
                <a:solidFill>
                  <a:srgbClr val="9a0000"/>
                </a:solidFill>
                <a:latin typeface="Verdana"/>
              </a:rPr>
              <a:t>36-38 AT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71200" y="1044360"/>
            <a:ext cx="816300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How Do Cells Make ATP?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Verdana"/>
              </a:rPr>
              <a:t>Metabolis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total of all the chemical re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TP is the primary energy carrier for al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ells, both autotrophic and heterotrophic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7" descr="http://biology.clc.uc.edu/graphics/bio104/atp%20small.jpg"/>
          <p:cNvPicPr/>
          <p:nvPr/>
        </p:nvPicPr>
        <p:blipFill>
          <a:blip r:embed="rId1"/>
          <a:stretch/>
        </p:blipFill>
        <p:spPr>
          <a:xfrm>
            <a:off x="6095880" y="4495680"/>
            <a:ext cx="2819520" cy="2114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3" descr="http://www.sirinet.net/~jgjohnso/modenergyyeild.jpg"/>
          <p:cNvPicPr/>
          <p:nvPr/>
        </p:nvPicPr>
        <p:blipFill>
          <a:blip r:embed="rId1"/>
          <a:stretch/>
        </p:blipFill>
        <p:spPr>
          <a:xfrm>
            <a:off x="2057400" y="304920"/>
            <a:ext cx="5195880" cy="655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http://www.sirinet.net/~jgjohnso/modcellularrespir.jpg"/>
          <p:cNvPicPr/>
          <p:nvPr/>
        </p:nvPicPr>
        <p:blipFill>
          <a:blip r:embed="rId1"/>
          <a:stretch/>
        </p:blipFill>
        <p:spPr>
          <a:xfrm>
            <a:off x="990720" y="228600"/>
            <a:ext cx="7162560" cy="6087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1044360"/>
            <a:ext cx="816300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Anaerobic Respiration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erobic pathways operate when oxygen is absent (or limited); Pyruvate from glycolysis is metabolized to produce molecules other than acetyl Co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lycolysis still occ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 is a net yield of only two ATPs and NAD+ is regener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Fermentation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- subset of Anaerobic Respiration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rmentation is an anaerobic process that Does Not use an electron transport cha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 the end of glycolysis, Pyruvate is converted into molecules other than acetyl Co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a0000"/>
                </a:solidFill>
                <a:latin typeface="Verdana"/>
              </a:rPr>
              <a:t>Lactate Ferment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yruvate molecules are converted t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act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ertain bacteria can sour milk and make it undrinkable but other bacteria have been used commercially to produce cheese, yogurt, and sauerkrau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muscle cells are very active, they convert to producing lactate temporarily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a0000"/>
                </a:solidFill>
                <a:latin typeface="Verdana"/>
              </a:rPr>
              <a:t>Alcoholic Ferment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ellular enzymes convert Pyruvate to acetaldehyde, which then accepts electrons from NADH to become alcohol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thanol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easts are valuable in the baking industry (carbon dioxide by-product makes dough rise) and in alcoholic beverage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3" descr="http://www.sirinet.net/~jgjohnso/modlacticacidferm.jpg"/>
          <p:cNvPicPr/>
          <p:nvPr/>
        </p:nvPicPr>
        <p:blipFill>
          <a:blip r:embed="rId1"/>
          <a:stretch/>
        </p:blipFill>
        <p:spPr>
          <a:xfrm>
            <a:off x="609480" y="609480"/>
            <a:ext cx="4994280" cy="25257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http://www.sirinet.net/~jgjohnso/modalcoholicferm.jpg"/>
          <p:cNvPicPr/>
          <p:nvPr/>
        </p:nvPicPr>
        <p:blipFill>
          <a:blip r:embed="rId2"/>
          <a:stretch/>
        </p:blipFill>
        <p:spPr>
          <a:xfrm>
            <a:off x="3809880" y="3886200"/>
            <a:ext cx="4732560" cy="2639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http://betatestlabs.org/wp-content/uploads/2010/06/cramp.jpg"/>
          <p:cNvPicPr/>
          <p:nvPr/>
        </p:nvPicPr>
        <p:blipFill>
          <a:blip r:embed="rId1"/>
          <a:stretch/>
        </p:blipFill>
        <p:spPr>
          <a:xfrm>
            <a:off x="3578400" y="1749600"/>
            <a:ext cx="4505040" cy="48402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71200" y="977400"/>
            <a:ext cx="8163000" cy="64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Lactic acid is not the Enemy?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69480"/>
            <a:ext cx="8163000" cy="15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How much energy is actually in your food?</a:t>
            </a: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gram of glucose releases 3811 calories of heat ener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orie (food labels) = 1 kilocalorie = 1000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o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a0000"/>
                </a:solidFill>
                <a:uFillTx/>
                <a:latin typeface="Verdana"/>
              </a:rPr>
              <a:t>calori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the amount of energy needed to raise the temperature of 1 gram of water, 1 Celsius degr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 grams (tablespoon) of glucose = 40 kcal (40,000 ca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0 Calorie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ough energy to exercise for 15 minu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Picture 1029" descr="http://www.all-creatures.org/anan/carrot.gif"/>
          <p:cNvPicPr/>
          <p:nvPr/>
        </p:nvPicPr>
        <p:blipFill>
          <a:blip r:embed="rId1"/>
          <a:stretch/>
        </p:blipFill>
        <p:spPr>
          <a:xfrm>
            <a:off x="7238880" y="4800600"/>
            <a:ext cx="1549440" cy="190512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1030"/>
          <p:cNvSpPr/>
          <p:nvPr/>
        </p:nvSpPr>
        <p:spPr>
          <a:xfrm>
            <a:off x="2443320" y="5638680"/>
            <a:ext cx="288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number of calo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3" descr="recharging your batteries"/>
          <p:cNvPicPr/>
          <p:nvPr/>
        </p:nvPicPr>
        <p:blipFill>
          <a:blip r:embed="rId1"/>
          <a:stretch/>
        </p:blipFill>
        <p:spPr>
          <a:xfrm>
            <a:off x="1981080" y="152280"/>
            <a:ext cx="5064120" cy="6400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http://virtualastronaut.jsc.nasa.gov/textonly/act15/images/skeltw2.gif"/>
          <p:cNvPicPr/>
          <p:nvPr/>
        </p:nvPicPr>
        <p:blipFill>
          <a:blip r:embed="rId2"/>
          <a:stretch/>
        </p:blipFill>
        <p:spPr>
          <a:xfrm>
            <a:off x="6588000" y="3352680"/>
            <a:ext cx="2300400" cy="3048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ellular Respiration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ellular process of converting glucose to ATP energy in the presence or absence of oxyg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kes place in the Cytoplasm and Mitochondr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Aerobic Respiration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equires oxygen </a:t>
            </a: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(36-38 AT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Anaerobic Respir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fermentation)- does not require oxygen (less energy yield) </a:t>
            </a: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(2 AT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434520"/>
            <a:ext cx="81630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Overall Reaction Pathway for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Aerobic Respiration: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794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H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+  6O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+ 6H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6CO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+ 12H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 + Energ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Verdana"/>
                <a:ea typeface="Times New Roman"/>
              </a:rPr>
              <a:t>During this process, energy in the form of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Verdana"/>
                <a:ea typeface="Times New Roman"/>
              </a:rPr>
              <a:t>electrons is used to generate AT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erobic respiration occur in four stag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Glyco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Formation of Acetyl Coenzyme A (acetyl-CoA) from Pyruv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Krebs Cycle (Citric Acid Cycl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Electron Transport Chain and Chemiosmosi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3" descr="http://www.sirinet.net/~jgjohnso/mitochondria.jpg"/>
          <p:cNvPicPr/>
          <p:nvPr/>
        </p:nvPicPr>
        <p:blipFill>
          <a:blip r:embed="rId1"/>
          <a:stretch/>
        </p:blipFill>
        <p:spPr>
          <a:xfrm>
            <a:off x="914400" y="1676520"/>
            <a:ext cx="7319880" cy="374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#1 Glycolysi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ix-carbon glucose molecule is converted to two, three-carbon molecules of (2)</a:t>
            </a:r>
            <a:r>
              <a:rPr b="0" lang="en-US" sz="2800" spc="-1" strike="noStrike">
                <a:solidFill>
                  <a:srgbClr val="9a0000"/>
                </a:solidFill>
                <a:latin typeface="Verdana"/>
              </a:rPr>
              <a:t>Pyruvat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nd (2)</a:t>
            </a:r>
            <a:r>
              <a:rPr b="0" lang="en-US" sz="2800" spc="-1" strike="noStrike">
                <a:solidFill>
                  <a:srgbClr val="9a0000"/>
                </a:solidFill>
                <a:latin typeface="Verdana"/>
              </a:rPr>
              <a:t>ATP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(2)</a:t>
            </a:r>
            <a:r>
              <a:rPr b="0" lang="en-US" sz="2800" spc="-1" strike="noStrike">
                <a:solidFill>
                  <a:srgbClr val="9a0000"/>
                </a:solidFill>
                <a:latin typeface="Verdana"/>
              </a:rPr>
              <a:t>NAD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re form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ccurs in the </a:t>
            </a:r>
            <a:r>
              <a:rPr b="0" lang="en-US" sz="2800" spc="-1" strike="noStrike">
                <a:solidFill>
                  <a:srgbClr val="9a0000"/>
                </a:solidFill>
                <a:latin typeface="Verdana"/>
              </a:rPr>
              <a:t>Cytosol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ll other stages occur in the mitochond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800" spc="-1" strike="noStrike">
                <a:solidFill>
                  <a:srgbClr val="9a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Does no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quire oxygen and can proceed under aerobic and anaerobic condi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reaction is catalyzed by a specific enzy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http://vs.eun.org/shared/img/virtualschool/chemistry/p-210-glycolysis.jpg"/>
          <p:cNvPicPr/>
          <p:nvPr/>
        </p:nvPicPr>
        <p:blipFill>
          <a:blip r:embed="rId1"/>
          <a:stretch/>
        </p:blipFill>
        <p:spPr>
          <a:xfrm>
            <a:off x="838080" y="228600"/>
            <a:ext cx="3521160" cy="64008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5043240" y="1904760"/>
            <a:ext cx="3979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oxygen is pres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erobic respi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oxygen is not pres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aerobic respiration (fermentat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2:59:31Z</dcterms:created>
  <dc:creator>CASSANO</dc:creator>
  <dc:description/>
  <dc:language>en-US</dc:language>
  <cp:lastModifiedBy>cassano</cp:lastModifiedBy>
  <dcterms:modified xsi:type="dcterms:W3CDTF">2014-03-04T18:46:33Z</dcterms:modified>
  <cp:revision>20</cp:revision>
  <dc:subject/>
  <dc:title>Chapter 7: Cellular Respiration</dc:title>
</cp:coreProperties>
</file>